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98E14-522E-4CE3-9E5E-5DACACC2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CD2F5-113A-43B3-9446-590B45A7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C2E04-F9B2-41D0-BF14-6D4A6177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044D-C77D-40F2-AD7C-4D83CBFD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44AF-423B-4F85-AE3B-EAC16376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C6B4-C5ED-4479-9CBB-84C1C239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A013-FF73-409F-A860-6E6F8C1D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CA1D-4717-4A12-A7E7-32612EBB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C87F-5236-4C8C-B82B-ADE47673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F761-036B-4B1E-981E-2565D0C2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E896-6F7E-4C3B-A4A3-A3656051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8B3F7-C093-46FF-A978-97166954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C352-DFA2-4F5C-BC1F-06BF495C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7E00-8032-4E2A-9CCA-E98634BE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7B71-07CE-4539-BBA0-D216F0EA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A656-D1F0-48B7-B697-261452B0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2C6E-3DB3-458B-A4F7-BC84272A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761BE-045E-44DF-B3F9-CDDC610E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E0A2-0A2B-4411-8149-B9F59431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99BA-F741-4886-A4C0-C46603D2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374B4-2ADC-432E-A51B-96A42DC1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DD3CD-C535-4FA0-A7D3-50074A82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E433E-DBEC-40FD-916C-C7190EA8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6FC27-CF0D-4E2E-B417-9C507AF5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27C6-BB64-4B33-B1B5-6C92D2A697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61F4-B5F8-470E-94F3-7CA95838E2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Document and Voice Examinatio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876560" y="4368600"/>
            <a:ext cx="4259160" cy="7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easant Valley High Schoo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rensic Sci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15:17Z</dcterms:created>
  <dc:creator>Adam's Homepage</dc:creator>
  <dc:description/>
  <dc:language>en-US</dc:language>
  <cp:lastModifiedBy>Adam's Homepage</cp:lastModifiedBy>
  <dcterms:modified xsi:type="dcterms:W3CDTF">2008-07-29T05:15:55Z</dcterms:modified>
  <cp:revision>1</cp:revision>
  <dc:subject/>
  <dc:title>Document and Voice Examination</dc:title>
</cp:coreProperties>
</file>